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205-E41B-4D05-A885-798298D2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29C-B497-49B1-AECF-069D9CC8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931-092C-498A-9113-CB43A4B0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B6A-4CCB-4844-93AC-593D6EED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9ACF-0055-489C-A8A4-ABE64FCF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183B-2898-442E-8A63-A9A2126E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B10-BCA5-449A-BFAF-B8AE12E0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C06D-B6CE-4286-8E47-C2856963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8961-DEBF-46B1-B1F9-D4AB36F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72B4-3148-4A11-9404-DD6A9B5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ACA4-080A-4A8B-B9CD-A275941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FA3-012A-4D1D-BD14-8CCF94B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0124-7ED8-4718-A983-015EF83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84D0-109C-48BF-AF41-71483AB3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C444-E10F-4016-8A37-7DC1E4E3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4CEF-D05C-43F4-AE56-26A2F4EF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7EB4-D6D5-4289-AC7B-7FFCCF62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0D7D-19AE-4156-B935-D4499E8B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35B0-6887-4D2B-BA0A-B9D17153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BF59-6FF3-43E1-9B75-F82092E7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558D-99E2-4030-913F-02AC2CB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D025-D9A0-4206-AF0C-D098760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D6-E898-41DB-AFAD-6773938E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1122-9D68-4A65-95F3-755A3773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E84D-FD35-414A-A78B-8D92B1E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471D-D8E2-4C3B-942F-540F370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D4C2-12A2-4FDC-B4F7-697E66A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7077-9D57-479C-9948-9490B466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76C3-8235-4AC3-8E84-1D9CF3DA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B03B-CAFB-4B16-892B-3DF7AAC2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211E-C299-420C-875F-1E93F68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4757-A37D-43BA-A271-4D206F66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DFA4-500B-45A4-8299-831A0ACE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2D2-3F8C-424E-A69D-3F499B68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4648D-8124-4966-BF83-A44CFB3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AF43-BBC6-4EFD-B641-1988AA5F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F961-A9F6-4E3C-A440-76DC667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EEEF-1C89-4BDD-AC95-265304F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0780-55B9-48BE-8C6A-99B862D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85A3-4C38-4426-83C3-F256F78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8FDA-3075-4586-954F-40190B4C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EF7E-17ED-4C67-97AE-29BE4EDC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FE54-EE82-4DDC-8B42-370DCC56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731B-FB60-4A9F-9689-9ADE42BF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E45-D58C-4ECF-A192-2FBA920D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3C0F-2547-4DAF-B070-A51CDA9E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6FA9-D6ED-4B53-950F-72F0E84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C425-4993-4C4A-822D-89165958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C76A-5F6A-4C47-8450-5AC80FE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D650-E0D6-4A42-ACE3-DC4F8939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A1DC3-5666-42FF-B89D-FC388CC8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A12F-F246-4C94-B89E-9D08ED8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2E52-0A13-40E2-990F-BF470AE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4526A-B386-462B-B367-5B396E2F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B4A2-761F-47E4-BD3E-8BAFD775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9BE-C0CB-4DB2-AB15-6BE4895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0A110-FCA9-4EA7-B095-6C7F6A42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AFB6-131F-4DCF-B4D3-91E9EBAE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506F-324F-4552-A385-904E3F68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F3966-E8E8-49E7-A5AC-248FE534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0E03E-9F63-43F7-9FDD-56C6590B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66DDB-B1D3-4A5B-B82B-FC87902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059C-8430-401E-B990-56D3AE3B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F5075-3458-40CE-B77B-38C80DD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5A45-8E20-457B-86F6-AF74C54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02059-6974-4E15-A607-CBB3F7FC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C99-EC2D-4123-87CA-CD9CC53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9C53-5B40-444C-805A-766D4FB8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24BF6-D725-4B24-88B2-D7B32980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B8F8-450C-4CA5-9A2E-560E4406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A6011-6D4B-48FF-B594-BFD434A1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EF21-9825-4749-A2CA-F9CE68E3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C2C64-E362-4668-880D-48689BE9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976B-B613-40BE-BB9A-C68A664C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6549-D2DC-461D-9769-195589D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677C-7D33-4CEC-B18A-87F240B4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40B9-3575-47C4-B280-B308144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921-F0D0-4D60-8BC4-F3DD45B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6A8CA-5ABE-4C87-A535-180BF9F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962E8-5E92-43A5-BB62-FE815CE5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F865-D419-42CF-81CB-CEB002E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CFAB5-FFED-434C-B7F3-5B7F2E1B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47C45-A5F4-459F-B754-21B1C2CE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8464-F467-4E3D-8571-0BE5DBDD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B03AF-E03E-4C90-A004-B7BE534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E236-BB2A-4D4A-BBCC-2C143117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9085F-5E17-45FA-8065-196E4A19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C0F6-496B-44E5-B37A-985877A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34D-4F38-4896-92F2-92ACE80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FEB3C-653B-41D9-A101-FA2ACBB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76ED1-8888-4CB8-85F5-7D684888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B6B5-0F57-448A-8968-257610C3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039DE-41D1-4DAE-9022-FB37BB5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70A5E-32F3-40D4-B033-C946ACC8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13E8-08D1-4DB9-BC6B-9EBD6019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4B64-5377-44D8-B62A-7B238674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BCA8-F2C1-48FE-AC1A-DC10B48BF4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7CE1-FB27-41C5-91FB-792962060C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C362-7C4B-4785-9D6E-E83CBB4E5A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22C-8D7F-4BD9-98E7-39FB4F315F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E318-358F-48DA-ABB7-8748177995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72F8-11B2-4BF2-B39A-FED16CF402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8DE1-F541-47AC-9F53-56C70CEB7B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156-BF37-409B-B2C8-7586943959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resh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682560" y="1060560"/>
            <a:ext cx="8089920" cy="18478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225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oun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Homework/Share sto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roup discussion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July 23 1995 I was watching 60 minutes and saw a tape of Martin Luther King Jr. giving his famous speech that began with these words I have a drea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y:Red::Opal: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ki:snow::swim: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orksh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one person to work with, may not be any of the same people you have worked with before.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1:52:48Z</dcterms:created>
  <dc:creator>litchfield</dc:creator>
  <dc:description/>
  <dc:language>en-US</dc:language>
  <cp:lastModifiedBy>VMS</cp:lastModifiedBy>
  <dcterms:modified xsi:type="dcterms:W3CDTF">2009-09-02T16:19:12Z</dcterms:modified>
  <cp:revision>17</cp:revision>
  <dc:subject/>
  <dc:title>Sept. 2</dc:title>
</cp:coreProperties>
</file>